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237-BD61-4745-A2CD-CBB1366B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845-6F62-4F57-8263-93802F9B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FB9-3E93-49E8-92FE-975E7540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335-A3E7-4669-877B-B6123A7A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70D-06F0-410B-B9B4-D0DEC23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B6E-54A5-407F-BAD8-9B93D312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E19-D336-4016-BC66-4DA42E19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699-8067-4BDA-A7E3-5A6E8DF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BEC-F994-4758-B3F0-5FF7D422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12A-4D1C-465A-BDB5-8974043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82D-AD1D-4999-A62B-8503429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BC8-873D-4773-92C7-3F45915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5B51-4E4A-4843-B745-771E51B1C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480060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228600"/>
            <a:ext cx="6325920" cy="35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IP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838160" cy="18558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2211480" cy="2057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1812960" cy="169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16640" y="4419720"/>
            <a:ext cx="1827360" cy="169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620120" y="6200640"/>
            <a:ext cx="1523880" cy="642600"/>
          </a:xfrm>
          <a:prstGeom prst="rect">
            <a:avLst/>
          </a:prstGeom>
          <a:solidFill>
            <a:srgbClr val="0000ff"/>
          </a:solidFill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RUN A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5791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ed by: Ruth Wake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7631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kefield"/>
          <p:cNvPicPr/>
          <p:nvPr/>
        </p:nvPicPr>
        <p:blipFill>
          <a:blip r:embed="rId1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1" name="" descr="Wakefield"/>
          <p:cNvPicPr/>
          <p:nvPr/>
        </p:nvPicPr>
        <p:blipFill>
          <a:blip r:embed="rId2"/>
          <a:stretch/>
        </p:blipFill>
        <p:spPr>
          <a:xfrm>
            <a:off x="0" y="0"/>
            <a:ext cx="4952880" cy="43434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181480" y="1066680"/>
            <a:ext cx="3810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657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3352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 chip cookies are a awesome snack for the go and at h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 chip cookies wer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nted back around 17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chocolate chip cookies they used a special candy bar for the chocolate c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used Semi-sweet chocolate bar for the c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ookies were created they were high ranking and still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64160" y="2516040"/>
          <a:ext cx="40050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516040"/>
                    <a:ext cx="40050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iel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was responsible for coming up with the conco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field graduated from the Framingham State Normal School Department of household Arts IN 19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raduating she worked as a dieting and food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and her husband  purchased a Cape Cod-Style toll house located between Boston and New Bed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used candy bar to make chocolate chip cook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passed away in 19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9Z</dcterms:created>
  <dc:creator>install</dc:creator>
  <dc:description/>
  <dc:language>en-US</dc:language>
  <cp:lastModifiedBy>install</cp:lastModifiedBy>
  <dcterms:modified xsi:type="dcterms:W3CDTF">2011-01-14T16:54:02Z</dcterms:modified>
  <cp:revision>14</cp:revision>
  <dc:subject/>
  <dc:title>Slide 1</dc:title>
</cp:coreProperties>
</file>